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EC9-8753-46E5-85AE-1CE11491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5D3-E122-4B10-9402-1BD22E6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9BF-445C-41EA-B012-6914541F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AEA-E74A-46C1-B6D1-A59C867D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7DE-CCDE-4874-9A1F-6AC2180F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B3-AF4A-40EC-AD48-7CC868C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845-BAD0-4E41-A8FB-17B5789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228-F4D0-4040-B76D-CA31DFB5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C4E-02EA-4C99-A302-D3FF8AD8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544-9413-4A64-8A31-7AA4B0E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EE2-EC18-4FEE-A7AC-ECD722C2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2A9-81DA-46E8-955C-3C65183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6569-9A89-44C9-9EC1-69BB761F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lingcheese.com/graphics/1/life+quotes.ht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lingcheese.com/image/code/11/peace+quotes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lingcheese.com/image/code/11/peace+quotes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,peace is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ephan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080" y="1218600"/>
            <a:ext cx="345924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419720"/>
            <a:ext cx="37339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ace Image"/>
          <p:cNvPicPr/>
          <p:nvPr/>
        </p:nvPicPr>
        <p:blipFill>
          <a:blip r:embed="rId1"/>
          <a:stretch/>
        </p:blipFill>
        <p:spPr>
          <a:xfrm>
            <a:off x="1676520" y="1522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no way to peac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 is the way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 Meche qu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309840"/>
            <a:ext cx="480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find peace. We shall hear angels. We shall see the sky sparkling with diamonds.  Anton Che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apestry_Rainbow_Peace_Sign_Tie-dye.jpg peace sign tie dye image by mj121958"/>
          <p:cNvPicPr/>
          <p:nvPr/>
        </p:nvPicPr>
        <p:blipFill>
          <a:blip r:embed="rId1"/>
          <a:stretch/>
        </p:blipFill>
        <p:spPr>
          <a:xfrm>
            <a:off x="259092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little things can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lucas-peace-sign-1.jpg baby image by elisa111_2010"/>
          <p:cNvPicPr/>
          <p:nvPr/>
        </p:nvPicPr>
        <p:blipFill>
          <a:blip r:embed="rId1"/>
          <a:stretch/>
        </p:blipFill>
        <p:spPr>
          <a:xfrm>
            <a:off x="5791320" y="1828800"/>
            <a:ext cx="2895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e is not the absence of war; it is a virtue; a state of mind; a disposition for benevolence; confidence; and justice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uch Spino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peace-1.jpg rainbow peace sign image by mj121958"/>
          <p:cNvPicPr/>
          <p:nvPr/>
        </p:nvPicPr>
        <p:blipFill>
          <a:blip r:embed="rId1"/>
          <a:stretch/>
        </p:blipFill>
        <p:spPr>
          <a:xfrm>
            <a:off x="5334120" y="3200400"/>
            <a:ext cx="3274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53:34Z</dcterms:created>
  <dc:creator>vcollier</dc:creator>
  <dc:description/>
  <dc:language>en-US</dc:language>
  <cp:lastModifiedBy>Vanessa Collier</cp:lastModifiedBy>
  <dcterms:modified xsi:type="dcterms:W3CDTF">2010-05-17T17:29:51Z</dcterms:modified>
  <cp:revision>12</cp:revision>
  <dc:subject/>
  <dc:title>Peace quotes2</dc:title>
</cp:coreProperties>
</file>